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DD88-E120-4838-B6FE-2F468FC1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1DEE-84BD-4BB5-B873-49AA26E5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1D99-EA47-4D26-AB58-A18FBE9D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63EE-0A4E-4600-983B-1A5C6B33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4C1C-9AD3-4D3C-A412-EB50F80E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732D-E186-4F0E-A29F-7605AF31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C5E6-0B0D-4E76-8A04-C2108AE5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AA6B-472E-407C-A613-E528E8BF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F4DB-A98A-4A43-AB36-4E30B21C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14B4-1A75-4FB3-A177-6759A959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B638-5FBE-442E-B745-5D2143D6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FC53-1333-43B1-8E39-41F5E5C5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153A-B572-4B11-BE57-E446E83E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8357-E00F-4F6A-9290-DB30436A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B0F1-733A-484E-A021-A30E880F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A4E8-7698-47DA-8C4F-5DDA0A71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F3DA-A789-4B99-80D6-1DC1C2DC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B78F-A1D3-47D9-838F-B55FBE54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31AA-3371-4676-B092-885C8F0F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3D4E-597E-4841-8AE0-3C498787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AEE8-3981-4C10-A87E-C5F51F02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19E6-43FF-45AF-AF13-8C9B692F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A8F1-1011-4F3B-9A63-9AB427DD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C9CD-71F4-4257-B549-0DEFAD02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D71D-116C-4566-82A8-1B61E3B0C4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0B4B-B3A2-4321-B7FA-51B0CDC43D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200040" y="3505320"/>
            <a:ext cx="5576760" cy="1828800"/>
          </a:xfrm>
          <a:prstGeom prst="rect">
            <a:avLst/>
          </a:prstGeom>
          <a:solidFill>
            <a:srgbClr val="ffff99"/>
          </a:soli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Arial"/>
              </a:rPr>
              <a:t>Нормативно-правовая база. </a:t>
            </a:r>
            <a:r>
              <a:rPr b="0" lang="ru-RU" sz="2200" spc="-1" strike="noStrike">
                <a:solidFill>
                  <a:srgbClr val="660066"/>
                </a:solidFill>
                <a:latin typeface="Arial Unicode MS"/>
              </a:rPr>
              <a:t>Требования к воспитанию в свете новых ФГОС. </a:t>
            </a:r>
            <a:r>
              <a:rPr b="0" lang="ru-RU" sz="2200" spc="-1" strike="noStrike">
                <a:solidFill>
                  <a:srgbClr val="660066"/>
                </a:solidFill>
                <a:latin typeface="Arial"/>
              </a:rPr>
              <a:t>Цели и задачи воспитания</a:t>
            </a:r>
            <a:r>
              <a:rPr b="0" lang="ru-RU" sz="2200" spc="-1" strike="noStrike">
                <a:solidFill>
                  <a:srgbClr val="660066"/>
                </a:solidFill>
                <a:latin typeface="Arial Unicode MS"/>
              </a:rPr>
              <a:t>. </a:t>
            </a:r>
            <a:r>
              <a:rPr b="0" lang="ru-RU" sz="2200" spc="-1" strike="noStrike">
                <a:solidFill>
                  <a:srgbClr val="660066"/>
                </a:solidFill>
                <a:latin typeface="Arial"/>
              </a:rPr>
              <a:t>Организация</a:t>
            </a:r>
            <a:r>
              <a:rPr b="0" lang="ru-RU" sz="2200" spc="-1" strike="noStrike">
                <a:solidFill>
                  <a:srgbClr val="660066"/>
                </a:solidFill>
                <a:latin typeface="Arial Unicode MS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Arial"/>
              </a:rPr>
              <a:t>воспитательной деятельности в колледже</a:t>
            </a:r>
            <a:r>
              <a:rPr b="0" lang="ru-RU" sz="2200" spc="-1" strike="noStrike">
                <a:solidFill>
                  <a:srgbClr val="660066"/>
                </a:solidFill>
                <a:latin typeface="Arial Unicode MS"/>
              </a:rPr>
              <a:t>. Оценка </a:t>
            </a:r>
            <a:r>
              <a:rPr b="0" lang="ru-RU" sz="2200" spc="-1" strike="noStrike">
                <a:solidFill>
                  <a:srgbClr val="660066"/>
                </a:solidFill>
                <a:latin typeface="Arial"/>
              </a:rPr>
              <a:t>качества воспитательной деятельности</a:t>
            </a:r>
            <a:r>
              <a:rPr b="0" lang="ru-RU" sz="2200" spc="-1" strike="noStrike">
                <a:solidFill>
                  <a:srgbClr val="660066"/>
                </a:solidFill>
                <a:latin typeface="Arial Unicode MS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362320" y="990720"/>
            <a:ext cx="6476760" cy="1904760"/>
          </a:xfrm>
          <a:prstGeom prst="rect">
            <a:avLst/>
          </a:prstGeom>
          <a:solidFill>
            <a:srgbClr val="cc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рган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оспитательн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 коллед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дзаголовок 2"/>
          <p:cNvSpPr/>
          <p:nvPr/>
        </p:nvSpPr>
        <p:spPr>
          <a:xfrm>
            <a:off x="3581280" y="5715000"/>
            <a:ext cx="5181840" cy="990720"/>
          </a:xfrm>
          <a:prstGeom prst="rect">
            <a:avLst/>
          </a:prstGeom>
          <a:solidFill>
            <a:srgbClr val="ffccff"/>
          </a:soli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пова Елена Михайловна, </a:t>
            </a:r>
            <a:r>
              <a:rPr b="1" lang="ru-RU" sz="1800" spc="-1" strike="noStrike">
                <a:solidFill>
                  <a:srgbClr val="000099"/>
                </a:solidFill>
                <a:latin typeface="Trebuchet MS"/>
              </a:rPr>
              <a:t>к.п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м. директора по УВР ГБОУ КГИС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j0233018"/>
          <p:cNvPicPr/>
          <p:nvPr/>
        </p:nvPicPr>
        <p:blipFill>
          <a:blip r:embed="rId1"/>
          <a:stretch/>
        </p:blipFill>
        <p:spPr>
          <a:xfrm>
            <a:off x="457200" y="990720"/>
            <a:ext cx="1905120" cy="193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4"/>
          <p:cNvSpPr/>
          <p:nvPr/>
        </p:nvSpPr>
        <p:spPr>
          <a:xfrm>
            <a:off x="914400" y="533520"/>
            <a:ext cx="7993080" cy="12016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  <a:ea typeface="Arial"/>
              </a:rPr>
              <a:t>Структура общих (социальных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  <a:ea typeface="Arial"/>
              </a:rPr>
              <a:t>компетент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28600" y="1828800"/>
            <a:ext cx="8713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Компетентность в сфере самостоятельной познавательной деятельности</a:t>
            </a:r>
            <a:r>
              <a:rPr b="0" lang="ru-RU" sz="2200" spc="-1" strike="noStrike">
                <a:solidFill>
                  <a:srgbClr val="660066"/>
                </a:solidFill>
                <a:latin typeface="Arial"/>
                <a:ea typeface="Arial"/>
              </a:rPr>
              <a:t>, основанная на усвоении способов приобретения знаний из различных источников информ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Компетентность в сфере гражданско-общественной деятельности </a:t>
            </a:r>
            <a:r>
              <a:rPr b="0" lang="ru-RU" sz="2200" spc="-1" strike="noStrike">
                <a:solidFill>
                  <a:srgbClr val="660066"/>
                </a:solidFill>
                <a:latin typeface="Arial"/>
                <a:ea typeface="Arial"/>
              </a:rPr>
              <a:t>(выполнение ролей гражданина, избирателя, потребител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Компетентность в сфере социально-трудовой деятельности </a:t>
            </a:r>
            <a:r>
              <a:rPr b="0" lang="ru-RU" sz="2200" spc="-1" strike="noStrike">
                <a:solidFill>
                  <a:srgbClr val="660066"/>
                </a:solidFill>
                <a:latin typeface="Arial"/>
                <a:ea typeface="Arial"/>
              </a:rPr>
              <a:t>(в том числе умение анализировать ситуацию на рынке труда, оценивать собственные профессиональные возможности, ориентироваться в нормах и этике взаимоотношений, навыки самоорган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Компетентность в бытовой сфере </a:t>
            </a:r>
            <a:r>
              <a:rPr b="0" lang="ru-RU" sz="2200" spc="-1" strike="noStrike">
                <a:solidFill>
                  <a:srgbClr val="660066"/>
                </a:solidFill>
                <a:latin typeface="Arial"/>
                <a:ea typeface="Arial"/>
              </a:rPr>
              <a:t>(включая аспекты собственного здоровья, семейного бытия и проч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Компетентность в сфере культурно-досуговой деятельности </a:t>
            </a:r>
            <a:r>
              <a:rPr b="0" lang="ru-RU" sz="2200" spc="-1" strike="noStrike">
                <a:solidFill>
                  <a:srgbClr val="660066"/>
                </a:solidFill>
                <a:latin typeface="Arial"/>
                <a:ea typeface="Arial"/>
              </a:rPr>
              <a:t>(включая выбор путей и способов использования свободного времени, культурно и духовно обогащающих личност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1"/>
          <p:cNvSpPr/>
          <p:nvPr/>
        </p:nvSpPr>
        <p:spPr>
          <a:xfrm>
            <a:off x="53352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Профессиональные компетен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одержимое 2"/>
          <p:cNvSpPr/>
          <p:nvPr/>
        </p:nvSpPr>
        <p:spPr>
          <a:xfrm>
            <a:off x="22860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  <a:ea typeface="Arial"/>
              </a:rPr>
              <a:t>Профессиональная компетенции – это способности работника выполнять работу в соответствии с требованиями дол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  <a:ea typeface="Arial"/>
              </a:rPr>
              <a:t>Профессиональные компетенции представляют собой совокупность знаний, умений и навыков, необходимых специалистам в той или иной профессиональной области и самостоятельно применяемых ими в процессе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  <a:ea typeface="Arial"/>
              </a:rPr>
              <a:t>Профессиональная компетенция — способность успешно действовать на основе практического опыта, умения и знаний при решении задач профессионального рода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оспитани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Целенаправленная профессиональная деятельность педагога, содействующая максимальному развитию личности ребенка, вхождению его в контекст современной культуры, становлению как субъекта собственной жизни, формированию его мотивов и цен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Целостный сознательно организованный пед. процесс формирования и образования личности в учебно-воспитательных учреждениях подготовленными спе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Целенаправленная, управляемая и открытая система воспитательного взаимодействия детей и взрослых, в которой воспитанник является паритетным участ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Процесс и результат целенаправленного влияния на развитие личности, ее отношений, черт, качеств, взглядов, убеждений, способов поведения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Целенаправленное создание условий для освоения человеком и перевода в личный опыт культуры путем длительного воздействия социальных институтов, соц. среды с целью стимулирования его само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-конечная звезда 26"/>
          <p:cNvSpPr/>
          <p:nvPr/>
        </p:nvSpPr>
        <p:spPr>
          <a:xfrm>
            <a:off x="7924680" y="6858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главное в</a:t>
            </a:r>
            <a:r>
              <a:rPr b="1" lang="ru-RU" sz="44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спитан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Образовательное право каждого обучающего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Образовательные достижения каждого обучающего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Социальная успешность каждого обучающего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Конкурентоспособность выпускника в инновационной эконом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3399"/>
                </a:solidFill>
                <a:uFillTx/>
                <a:latin typeface="Arial"/>
              </a:rPr>
              <a:t>Цель воспитания: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способствовать нравственному, эмоциональному и физическому развитию личности, раскрывать ее творческие возможности, формировать гуманистические отношения, обеспечивать разнообразные условия для расцвета индивидуальности ребенка с учетом его возрастных особенностей.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943600"/>
            <a:ext cx="746748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  <a:ea typeface="Arial"/>
              </a:rPr>
              <a:t>От воспитания – к самовоспит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новные задачи воспитания для С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ижение обучающимися образовательных результатов (целевые программы и технологии лидерства, волонтерства, предпринимательства; проекты, инновационные площадки, ресурсные центры, электронное обучение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спешная социализация обучающихся и работа в инновационной экономике (общие и профессиональные компетен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здание условий для формирования законопослушного поведения, здорового образа жизни обучающихся (правовое просвещение, дополнительное образование, спорт, искусство, самоуправление, досуг, сотрудничество с социальными партнера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беспечение индивидуализации образовательных траекторий обучающихся  (системная работа с одаренными, «трудными», детьми с ОВЗ, мигранта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здание условий психолого-педагогического и медико-социального сопровождения обучающихся разных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5"/>
          <p:cNvGrpSpPr/>
          <p:nvPr/>
        </p:nvGrpSpPr>
        <p:grpSpPr>
          <a:xfrm>
            <a:off x="7238880" y="457200"/>
            <a:ext cx="1643040" cy="1357200"/>
            <a:chOff x="7238880" y="457200"/>
            <a:chExt cx="1643040" cy="1357200"/>
          </a:xfrm>
        </p:grpSpPr>
        <p:sp>
          <p:nvSpPr>
            <p:cNvPr id="148" name="Puzzle3"/>
            <p:cNvSpPr/>
            <p:nvPr/>
          </p:nvSpPr>
          <p:spPr>
            <a:xfrm>
              <a:off x="8038800" y="457200"/>
              <a:ext cx="645840" cy="7210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Puzzle2"/>
            <p:cNvSpPr/>
            <p:nvPr/>
          </p:nvSpPr>
          <p:spPr>
            <a:xfrm>
              <a:off x="7851240" y="982440"/>
              <a:ext cx="1030680" cy="657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uzzle4"/>
            <p:cNvSpPr/>
            <p:nvPr/>
          </p:nvSpPr>
          <p:spPr>
            <a:xfrm>
              <a:off x="7452000" y="974520"/>
              <a:ext cx="621360" cy="8398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uzzle1"/>
            <p:cNvSpPr/>
            <p:nvPr/>
          </p:nvSpPr>
          <p:spPr>
            <a:xfrm>
              <a:off x="7238880" y="675360"/>
              <a:ext cx="1043640" cy="5007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523520" y="1371600"/>
            <a:ext cx="5753520" cy="5486040"/>
            <a:chOff x="1523520" y="1371600"/>
            <a:chExt cx="5753520" cy="5486040"/>
          </a:xfrm>
        </p:grpSpPr>
        <p:sp>
          <p:nvSpPr>
            <p:cNvPr id="153" name="AutoShape 3"/>
            <p:cNvSpPr/>
            <p:nvPr/>
          </p:nvSpPr>
          <p:spPr>
            <a:xfrm>
              <a:off x="2463120" y="1371600"/>
              <a:ext cx="3874680" cy="609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ТЕОРЕТИЧЕСКАЯ   КОНЦЕП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>
              <a:off x="2932560" y="2463480"/>
              <a:ext cx="2700360" cy="603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ЦЕЛИ И ЗАДАЧИ ВОСПИТ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1875960" y="3429000"/>
              <a:ext cx="5048640" cy="4824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П Л А Н И Р О В А Н И 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4224240" y="3911760"/>
              <a:ext cx="1761120" cy="434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ПСИХОЛОГО-ПЕДАГОГИЧЕСКОЕ СОПРОВОЖДЕН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3519720" y="3911760"/>
              <a:ext cx="704520" cy="434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СРЕДСТВ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2815200" y="3911760"/>
              <a:ext cx="704160" cy="434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МЕТОД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ФОРМ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1875960" y="3911760"/>
              <a:ext cx="939240" cy="434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СОДЕРЖАН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3402360" y="4559040"/>
              <a:ext cx="1761120" cy="6793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ДЕЯТЕЛЬНОСТЬ ПЕАГОГОВ И ВОСПИТАННИК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>
              <a:off x="3285000" y="5600880"/>
              <a:ext cx="1995840" cy="4824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РЕЗУЛЬТАТ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>
              <a:off x="3167640" y="6445080"/>
              <a:ext cx="2230560" cy="41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РЕФЛЕКС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4224240" y="427356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4224240" y="52387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4224240" y="608328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7277040" y="2705400"/>
              <a:ext cx="0" cy="39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1523880" y="1739520"/>
              <a:ext cx="0" cy="410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 flipH="1">
              <a:off x="5398560" y="6686280"/>
              <a:ext cx="187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 flipH="1">
              <a:off x="1523520" y="1739520"/>
              <a:ext cx="9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0"/>
            <p:cNvSpPr/>
            <p:nvPr/>
          </p:nvSpPr>
          <p:spPr>
            <a:xfrm>
              <a:off x="1523880" y="5848560"/>
              <a:ext cx="176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21"/>
            <p:cNvSpPr/>
            <p:nvPr/>
          </p:nvSpPr>
          <p:spPr>
            <a:xfrm>
              <a:off x="5868000" y="3911760"/>
              <a:ext cx="1056600" cy="434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ИННОВАЦИОННЫЕ ТЕХНОЛОГИ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2"/>
            <p:cNvSpPr/>
            <p:nvPr/>
          </p:nvSpPr>
          <p:spPr>
            <a:xfrm flipH="1">
              <a:off x="5633280" y="2705400"/>
              <a:ext cx="16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3"/>
            <p:cNvSpPr/>
            <p:nvPr/>
          </p:nvSpPr>
          <p:spPr>
            <a:xfrm>
              <a:off x="4224240" y="198072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4"/>
            <p:cNvSpPr/>
            <p:nvPr/>
          </p:nvSpPr>
          <p:spPr>
            <a:xfrm>
              <a:off x="4224240" y="306720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5"/>
          <p:cNvSpPr/>
          <p:nvPr/>
        </p:nvSpPr>
        <p:spPr>
          <a:xfrm>
            <a:off x="1295280" y="457200"/>
            <a:ext cx="6934320" cy="91440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9999cc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rebuchet MS"/>
              </a:rPr>
              <a:t>Технология воспит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Скругленная прямоугольная выноска 1"/>
          <p:cNvGrpSpPr/>
          <p:nvPr/>
        </p:nvGrpSpPr>
        <p:grpSpPr>
          <a:xfrm>
            <a:off x="4648320" y="457200"/>
            <a:ext cx="4343040" cy="1623600"/>
            <a:chOff x="4648320" y="457200"/>
            <a:chExt cx="4343040" cy="1623600"/>
          </a:xfrm>
        </p:grpSpPr>
        <p:pic>
          <p:nvPicPr>
            <p:cNvPr id="177" name="Скругленная прямоугольная выноска 1" descr=""/>
            <p:cNvPicPr/>
            <p:nvPr/>
          </p:nvPicPr>
          <p:blipFill>
            <a:blip r:embed="rId1"/>
            <a:stretch/>
          </p:blipFill>
          <p:spPr>
            <a:xfrm>
              <a:off x="4648320" y="457200"/>
              <a:ext cx="4343040" cy="16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59200" y="556560"/>
              <a:ext cx="4120920" cy="12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7d"/>
                  </a:solidFill>
                  <a:latin typeface="Arial Black"/>
                </a:rPr>
                <a:t>Признаки В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7d"/>
                  </a:solidFill>
                  <a:latin typeface="Arial Black"/>
                </a:rPr>
                <a:t>(по В.А. Караковском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Выгнутая влево стрелка 2"/>
          <p:cNvSpPr/>
          <p:nvPr/>
        </p:nvSpPr>
        <p:spPr>
          <a:xfrm rot="3117600">
            <a:off x="1784880" y="805680"/>
            <a:ext cx="1001880" cy="2133360"/>
          </a:xfrm>
          <a:custGeom>
            <a:avLst/>
            <a:gdLst>
              <a:gd name="textAreaLeft" fmla="*/ 133920 w 1001880"/>
              <a:gd name="textAreaRight" fmla="*/ 867960 w 1001880"/>
              <a:gd name="textAreaTop" fmla="*/ 418680 h 2133360"/>
              <a:gd name="textAreaBottom" fmla="*/ 156528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83" stAng="-5400000" swAng="-5400000"/>
                <a:lnTo>
                  <a:pt x="0" y="11606"/>
                </a:lnTo>
                <a:arcTo wR="21600" hR="8483" stAng="10800000" swAng="-3400640"/>
                <a:lnTo>
                  <a:pt x="16200" y="21331"/>
                </a:lnTo>
                <a:lnTo>
                  <a:pt x="21600" y="18528"/>
                </a:lnTo>
                <a:lnTo>
                  <a:pt x="16200" y="15186"/>
                </a:lnTo>
                <a:lnTo>
                  <a:pt x="16200" y="16697"/>
                </a:lnTo>
                <a:arcTo wR="21600" hR="8483" stAng="7399360" swAng="3148253"/>
                <a:lnTo>
                  <a:pt x="369" y="10045"/>
                </a:lnTo>
                <a:arcTo wR="21600" hR="8483" stAng="-10547614" swAng="5147614"/>
                <a:close/>
              </a:path>
              <a:path fill="darkenLess" w="21600" h="21600">
                <a:moveTo>
                  <a:pt x="21600" y="0"/>
                </a:moveTo>
                <a:arcTo wR="21600" hR="8483" stAng="-5400000" swAng="-5400000"/>
                <a:lnTo>
                  <a:pt x="0" y="8483"/>
                </a:lnTo>
                <a:arcTo wR="21600" hR="8483" stAng="10800000" swAng="-252386"/>
                <a:lnTo>
                  <a:pt x="369" y="10045"/>
                </a:lnTo>
                <a:arcTo wR="21600" hR="8483" stAng="-10547614" swAng="5147614"/>
                <a:close/>
              </a:path>
            </a:pathLst>
          </a:custGeom>
          <a:solidFill>
            <a:srgbClr val="9999cc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3200400" y="2133720"/>
            <a:ext cx="4495680" cy="914400"/>
          </a:xfrm>
          <a:prstGeom prst="rect">
            <a:avLst/>
          </a:prstGeom>
          <a:gradFill rotWithShape="0">
            <a:gsLst>
              <a:gs pos="0">
                <a:srgbClr val="ffeaf4"/>
              </a:gs>
              <a:gs pos="100000">
                <a:srgbClr val="f8c4dd"/>
              </a:gs>
            </a:gsLst>
            <a:lin ang="5400000"/>
          </a:gradFill>
          <a:ln w="11520">
            <a:solidFill>
              <a:srgbClr val="cf6da4"/>
            </a:solidFill>
            <a:miter/>
          </a:ln>
          <a:effectLst>
            <a:outerShdw dist="24840" dir="5400000" blurRad="0" rotWithShape="0">
              <a:srgbClr val="872e6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c1f34"/>
                </a:solidFill>
                <a:latin typeface="Arial"/>
                <a:ea typeface="Arial"/>
              </a:rPr>
              <a:t>Единство воспитательных воз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"/>
          <p:cNvSpPr/>
          <p:nvPr/>
        </p:nvSpPr>
        <p:spPr>
          <a:xfrm>
            <a:off x="2666880" y="3048120"/>
            <a:ext cx="4496040" cy="914400"/>
          </a:xfrm>
          <a:prstGeom prst="rect">
            <a:avLst/>
          </a:prstGeom>
          <a:gradFill rotWithShape="0">
            <a:gsLst>
              <a:gs pos="0">
                <a:srgbClr val="ffeaf4"/>
              </a:gs>
              <a:gs pos="100000">
                <a:srgbClr val="f8c4dd"/>
              </a:gs>
            </a:gsLst>
            <a:lin ang="5400000"/>
          </a:gradFill>
          <a:ln w="11520">
            <a:solidFill>
              <a:srgbClr val="cf6da4"/>
            </a:solidFill>
            <a:miter/>
          </a:ln>
          <a:effectLst>
            <a:outerShdw dist="24840" dir="5400000" blurRad="0" rotWithShape="0">
              <a:srgbClr val="872e6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c1f34"/>
                </a:solidFill>
                <a:latin typeface="Arial"/>
                <a:ea typeface="Arial"/>
              </a:rPr>
              <a:t>Упорядоченность жизне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1905120" y="3962520"/>
            <a:ext cx="4495680" cy="914400"/>
          </a:xfrm>
          <a:prstGeom prst="rect">
            <a:avLst/>
          </a:prstGeom>
          <a:gradFill rotWithShape="0">
            <a:gsLst>
              <a:gs pos="0">
                <a:srgbClr val="ffeaf4"/>
              </a:gs>
              <a:gs pos="100000">
                <a:srgbClr val="f8c4dd"/>
              </a:gs>
            </a:gsLst>
            <a:lin ang="5400000"/>
          </a:gradFill>
          <a:ln w="11520">
            <a:solidFill>
              <a:srgbClr val="cf6da4"/>
            </a:solidFill>
            <a:miter/>
          </a:ln>
          <a:effectLst>
            <a:outerShdw dist="24840" dir="5400000" blurRad="0" rotWithShape="0">
              <a:srgbClr val="872e6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c1f34"/>
                </a:solidFill>
                <a:latin typeface="Arial"/>
                <a:ea typeface="Arial"/>
              </a:rPr>
              <a:t>Гуманный характер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6"/>
          <p:cNvSpPr/>
          <p:nvPr/>
        </p:nvSpPr>
        <p:spPr>
          <a:xfrm>
            <a:off x="838080" y="4876920"/>
            <a:ext cx="4876920" cy="914400"/>
          </a:xfrm>
          <a:prstGeom prst="rect">
            <a:avLst/>
          </a:prstGeom>
          <a:gradFill rotWithShape="0">
            <a:gsLst>
              <a:gs pos="0">
                <a:srgbClr val="ffeaf4"/>
              </a:gs>
              <a:gs pos="100000">
                <a:srgbClr val="f8c4dd"/>
              </a:gs>
            </a:gsLst>
            <a:lin ang="5400000"/>
          </a:gradFill>
          <a:ln w="11520">
            <a:solidFill>
              <a:srgbClr val="cf6da4"/>
            </a:solidFill>
            <a:miter/>
          </a:ln>
          <a:effectLst>
            <a:outerShdw dist="24840" dir="5400000" blurRad="0" rotWithShape="0">
              <a:srgbClr val="872e6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c1f34"/>
                </a:solidFill>
                <a:latin typeface="Arial"/>
                <a:ea typeface="Arial"/>
              </a:rPr>
              <a:t>Благоприятный морально-психологический клим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c1f34"/>
                </a:solidFill>
                <a:latin typeface="Arial"/>
                <a:ea typeface="Arial"/>
              </a:rPr>
              <a:t>(комфорт общения и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7"/>
          <p:cNvSpPr/>
          <p:nvPr/>
        </p:nvSpPr>
        <p:spPr>
          <a:xfrm>
            <a:off x="152280" y="5791320"/>
            <a:ext cx="4496040" cy="914400"/>
          </a:xfrm>
          <a:prstGeom prst="rect">
            <a:avLst/>
          </a:prstGeom>
          <a:gradFill rotWithShape="0">
            <a:gsLst>
              <a:gs pos="0">
                <a:srgbClr val="ffeaf4"/>
              </a:gs>
              <a:gs pos="100000">
                <a:srgbClr val="f8c4dd"/>
              </a:gs>
            </a:gsLst>
            <a:lin ang="5400000"/>
          </a:gradFill>
          <a:ln w="11520">
            <a:solidFill>
              <a:srgbClr val="cf6da4"/>
            </a:solidFill>
            <a:miter/>
          </a:ln>
          <a:effectLst>
            <a:outerShdw dist="24840" dir="5400000" blurRad="0" rotWithShape="0">
              <a:srgbClr val="872e6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c1f34"/>
                </a:solidFill>
                <a:latin typeface="Arial"/>
                <a:ea typeface="Arial"/>
              </a:rPr>
              <a:t>Демократический сти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7315200" y="48769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72" h="21600">
                <a:moveTo>
                  <a:pt x="11436" y="3837"/>
                </a:moveTo>
                <a:lnTo>
                  <a:pt x="14012" y="6448"/>
                </a:lnTo>
                <a:lnTo>
                  <a:pt x="14012" y="4707"/>
                </a:lnTo>
                <a:lnTo>
                  <a:pt x="15788" y="4707"/>
                </a:lnTo>
                <a:lnTo>
                  <a:pt x="15788" y="8224"/>
                </a:lnTo>
                <a:lnTo>
                  <a:pt x="18399" y="10800"/>
                </a:lnTo>
                <a:lnTo>
                  <a:pt x="16745" y="10800"/>
                </a:lnTo>
                <a:lnTo>
                  <a:pt x="16745" y="17989"/>
                </a:lnTo>
                <a:lnTo>
                  <a:pt x="6127" y="17989"/>
                </a:lnTo>
                <a:lnTo>
                  <a:pt x="6127" y="10800"/>
                </a:lnTo>
                <a:lnTo>
                  <a:pt x="4473" y="10800"/>
                </a:lnTo>
                <a:close/>
              </a:path>
              <a:path fill="darkenLess" w="22872" h="21600">
                <a:moveTo>
                  <a:pt x="14012" y="6448"/>
                </a:moveTo>
                <a:lnTo>
                  <a:pt x="14012" y="4707"/>
                </a:lnTo>
                <a:lnTo>
                  <a:pt x="15788" y="4707"/>
                </a:lnTo>
                <a:lnTo>
                  <a:pt x="15788" y="8224"/>
                </a:lnTo>
                <a:close/>
              </a:path>
              <a:path fill="darkenLess" w="22872" h="21600">
                <a:moveTo>
                  <a:pt x="10514" y="14299"/>
                </a:moveTo>
                <a:lnTo>
                  <a:pt x="12359" y="14299"/>
                </a:lnTo>
                <a:lnTo>
                  <a:pt x="12359" y="17989"/>
                </a:lnTo>
                <a:lnTo>
                  <a:pt x="16745" y="17989"/>
                </a:lnTo>
                <a:lnTo>
                  <a:pt x="16745" y="10800"/>
                </a:lnTo>
                <a:lnTo>
                  <a:pt x="6127" y="10800"/>
                </a:lnTo>
                <a:lnTo>
                  <a:pt x="6127" y="17989"/>
                </a:lnTo>
                <a:lnTo>
                  <a:pt x="10514" y="17989"/>
                </a:lnTo>
                <a:close/>
              </a:path>
            </a:pathLst>
          </a:custGeom>
          <a:solidFill>
            <a:srgbClr val="9999cc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дикаторы качества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воспитательн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Содержимое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458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ЕЛОВАЯ ИГРА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«Проектирование образа выпускника колледж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создание оптимального образа выпускника колледжа как «конечного продукта» гуманистической воспитатель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смоделировать образ выпускника колледжа с позиции различных социальных групп – педагогов, обучающихся,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выявить противоречия между позициями педагогов, обучающихся,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смоделировать оптимальный образ выпускника колледжа в рамках гуманистической воспит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Форма работы: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групповая («мозговой штурм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бразование – целенаправленный процесс воспитания и обучения в интересах человека, общества, государства, сопровождающийся констатацией достижения гражданином установленных государством образовательных уровней (Закон «Об образовании»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Organization Chart 7"/>
          <p:cNvGrpSpPr/>
          <p:nvPr/>
        </p:nvGrpSpPr>
        <p:grpSpPr>
          <a:xfrm>
            <a:off x="533520" y="2819520"/>
            <a:ext cx="8228880" cy="3885120"/>
            <a:chOff x="533520" y="2819520"/>
            <a:chExt cx="8228880" cy="3885120"/>
          </a:xfrm>
        </p:grpSpPr>
        <p:cxnSp>
          <p:nvCxnSpPr>
            <p:cNvPr id="111" name="_s81928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5699160" y="3321360"/>
              <a:ext cx="777600" cy="288072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81929"/>
            <p:cNvCxnSpPr>
              <a:stCxn id="115" idx="0"/>
              <a:endCxn id="113" idx="2"/>
            </p:cNvCxnSpPr>
            <p:nvPr/>
          </p:nvCxnSpPr>
          <p:spPr>
            <a:xfrm flipV="1">
              <a:off x="4647600" y="437328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81930"/>
            <p:cNvCxnSpPr>
              <a:stCxn id="117" idx="0"/>
              <a:endCxn id="113" idx="2"/>
            </p:cNvCxnSpPr>
            <p:nvPr/>
          </p:nvCxnSpPr>
          <p:spPr>
            <a:xfrm flipH="1" flipV="1" rot="5400000">
              <a:off x="2820240" y="3322800"/>
              <a:ext cx="777600" cy="287820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81931"/>
            <p:cNvSpPr/>
            <p:nvPr/>
          </p:nvSpPr>
          <p:spPr>
            <a:xfrm>
              <a:off x="3413520" y="281952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Times New Roman"/>
                </a:rPr>
                <a:t>Образова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81932"/>
            <p:cNvSpPr/>
            <p:nvPr/>
          </p:nvSpPr>
          <p:spPr>
            <a:xfrm>
              <a:off x="533520" y="515052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33"/>
                  </a:solidFill>
                  <a:latin typeface="Times New Roman"/>
                </a:rPr>
                <a:t>Обуч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81933"/>
            <p:cNvSpPr/>
            <p:nvPr/>
          </p:nvSpPr>
          <p:spPr>
            <a:xfrm>
              <a:off x="3413520" y="515052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33"/>
                  </a:solidFill>
                  <a:latin typeface="Times New Roman"/>
                </a:rPr>
                <a:t>Воспита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81934"/>
            <p:cNvSpPr/>
            <p:nvPr/>
          </p:nvSpPr>
          <p:spPr>
            <a:xfrm>
              <a:off x="6293880" y="515052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33"/>
                  </a:solidFill>
                  <a:latin typeface="Times New Roman"/>
                </a:rPr>
                <a:t>Развит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Ход проведения деловой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онный этап (5 мину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ники делятся на три примерно равные группы, которым присваиваются социальные роли педагогов, обучающихся, родителей. Каждая группа выбирает секретаря для записи  предложений по ходу дискуссии и оратора для защиты своей позиции. Каждой группе выдается бумага для черновых записей, ручки, лист ватмана, маркеры. Определяется время работы в группах и творческая задача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тап «мозгового штурма» (20 мину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ходе обсуждения группа моделирует образ выпускника колледжа (общие и профессиональные компетенции). Секретарь записывает любые поступающие мнения и предложения. После группового обсуждения выбираются по 5 наиболее важных общих и профессиональных компетенций, составляющих образ выпускника колледжа по мнению данной социальной группы (педагогов, обучающихся, родит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формительский этап (10 мину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листе ватмана оформляется итоговый вариант мнения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онный этап (15-20 мину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 представитель группы представляет образ выпускника, аргументируя позицию группы, отвечает на вопросы. Участники других групп задают вопросы для дополнительного разъяснения мнения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искуссионный этап (10-15 мину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тем групповой дискуссии выявляются общие черты и различия в образе выпускника колледжа по мнению различных социальных групп, а также противоречия в смоделированном образе. Формируется оптимальный образ выпускника колледжа с учетом мнения различных социальных груп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09120" y="3048120"/>
            <a:ext cx="7543800" cy="3047760"/>
          </a:xfrm>
          <a:prstGeom prst="rect">
            <a:avLst/>
          </a:prstGeom>
          <a:solidFill>
            <a:srgbClr val="ffccff"/>
          </a:solidFill>
          <a:ln w="11520">
            <a:solidFill>
              <a:srgbClr val="9999cc"/>
            </a:solidFill>
            <a:miter/>
          </a:ln>
          <a:effectLst>
            <a:outerShdw dist="25560" dir="5400000" blurRad="0" rotWithShape="0">
              <a:srgbClr val="673b71">
                <a:alpha val="83000"/>
              </a:srgbClr>
            </a:outerShdw>
          </a:effectLst>
        </p:spPr>
        <p:txBody>
          <a:bodyPr anchor="t">
            <a:normAutofit fontScale="94000"/>
          </a:bodyPr>
          <a:p>
            <a:pPr marL="254880" indent="-254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1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ОИ «Наша новая шко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4880" indent="-254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ФГОС СПО третьего поко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4880" indent="-254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овые организационно-правовые формы ГОУ СП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4880" indent="-254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880" indent="-254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880" indent="-254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4880" indent="-2548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838080"/>
            <a:ext cx="6400800" cy="1524240"/>
          </a:xfrm>
          <a:prstGeom prst="wedgeRectCallout">
            <a:avLst>
              <a:gd name="adj1" fmla="val -23361"/>
              <a:gd name="adj2" fmla="val 9323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  <a:ea typeface="Arial"/>
              </a:rPr>
              <a:t>Основания для изменения подходов в воспит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-конечная звезда 26"/>
          <p:cNvSpPr/>
          <p:nvPr/>
        </p:nvSpPr>
        <p:spPr>
          <a:xfrm>
            <a:off x="609480" y="1143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Нормативно-правовая б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ряжение Правительства Российской Федерации «О концепции долгосрочного социально-экономического развития Российской Федерации  на период до 2020 года» от 17 ноября 2008 г. №1662-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И «Наша новая школ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Закона РФ «Об Образовании» (последняя редакция) от 15. 07.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федеральной целевой программы развития образования на 2011 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действий по модернизации общего образования на 2011-2015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З - 83 от 8 мая 201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С СПО нового пок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Нормативно-правовая б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от 24 марта 2010 г. N 209 Министерства образования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 порядке аттестации педагогических работников государственных и муниципальных образовательных учрежд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от 26 августа 2010 г. N 761н Министерства здравоохранения и социального развития РФ об утверждении единого квалификационного справочника должностей руководителей, специалистов и служащих // Раздел «квалификационные характеристики должностей работников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Государственной программы города Москвы на среднесрочный период (2012-2016 гг) «Развитие образования города Москвы («Столичное образование»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города  Москвы «Об образовании лиц с ограниченными возможностями здоровья в городе Москве» от 28 апреля 2010 г. №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города Москвы от 28 сент 2010 г. №843-ПП «О развитии системы работы с одаренными детьми в городе Москв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ы Департамента образования города Москвы 2011-20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6840" y="1905120"/>
            <a:ext cx="8458200" cy="4572000"/>
          </a:xfrm>
          <a:prstGeom prst="rect">
            <a:avLst/>
          </a:prstGeom>
          <a:solidFill>
            <a:srgbClr val="ffccff"/>
          </a:solidFill>
          <a:ln w="9360">
            <a:solidFill>
              <a:srgbClr val="e36406"/>
            </a:solidFill>
            <a:miter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лючевое – перенастроить систему образования на освоение компетентностей, отвечающих современным требованиям к человеческому капит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Цель и результат образования – развитие личности, формирования общих (социальных) и профессиональных компете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прерывность образования, готовность обучаться в течение жизн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(Концепция «Образование через всю жизнь» - «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ifelong education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силение воспитательного потенциала  коллед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- Обеспечение  индивидуализированного психолого-педагогического сопровождения 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- Создание условий для дополнительного образования, самореализации и творческого развития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- Общественная оценка качества воспитания – по результат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57200"/>
            <a:ext cx="6858000" cy="1295280"/>
          </a:xfrm>
          <a:prstGeom prst="horizontalScroll">
            <a:avLst>
              <a:gd name="adj" fmla="val 1250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  <a:ea typeface="Arial"/>
              </a:rPr>
              <a:t>ОСНОВНЫЕ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  <a:ea typeface="Arial"/>
              </a:rPr>
              <a:t>К ОБРАЗОВАНИЮ (ГОСЗАКА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2437920"/>
            <a:ext cx="8458200" cy="4038840"/>
          </a:xfrm>
          <a:prstGeom prst="rect">
            <a:avLst/>
          </a:prstGeom>
          <a:gradFill rotWithShape="0">
            <a:gsLst>
              <a:gs pos="0">
                <a:srgbClr val="fce8ed"/>
              </a:gs>
              <a:gs pos="100000">
                <a:srgbClr val="f0bec9"/>
              </a:gs>
            </a:gsLst>
            <a:lin ang="5400000"/>
          </a:gradFill>
          <a:ln w="11520">
            <a:solidFill>
              <a:srgbClr val="9999ff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Компетентностный подход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ориентация на результат образования и воспитания – компетентную личность, развити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Личностно-деятельностный подход – создание условий продуктивной творческой деятельности для личностного развития кажд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762120"/>
            <a:ext cx="6248160" cy="1600200"/>
          </a:xfrm>
          <a:prstGeom prst="downArrowCallout">
            <a:avLst>
              <a:gd name="adj1" fmla="val 41111"/>
              <a:gd name="adj2" fmla="val 80424"/>
              <a:gd name="adj3" fmla="val 16667"/>
              <a:gd name="adj4" fmla="val 6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  <a:ea typeface="Arial"/>
              </a:rPr>
              <a:t>ДВА ПОДХОДА в образ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eaf4"/>
              </a:gs>
              <a:gs pos="100000">
                <a:srgbClr val="f8c4dd"/>
              </a:gs>
            </a:gsLst>
            <a:lin ang="5400000"/>
          </a:gradFill>
          <a:ln w="11520">
            <a:solidFill>
              <a:srgbClr val="cf6da4"/>
            </a:solidFill>
            <a:miter/>
          </a:ln>
          <a:effectLst>
            <a:outerShdw dist="24840" dir="5400000" blurRad="0" rotWithShape="0">
              <a:srgbClr val="872e6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етентностный подход –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усматривать при реализации компетентностного подхода внеаудиторную работу для формирования общих и профессиональных компетенций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развития и социализации обучающихс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формирование социокультурной среды, условий для всестороннего развития и социализации обучающихся в работе общественных организаций, спортивных и творческих клубов и т.п.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образовательных прав лич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В целях воспитания и развития личности, достижения результатов при освоении основной профессиональной образовательной программы в части развития общих компетенций обучающиеся могут участвовать в развитии самоуправления, работе общественных организаций, спортивных и творческих клубов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301252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5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5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омпетенции: профессиональные и общ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Результат образования в колледже – сформированная компетентность обучаю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  <a:ea typeface="Arial"/>
              </a:rPr>
              <a:t>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  <a:ea typeface="Arial"/>
              </a:rPr>
              <a:t>Общие (социальные) компетентности – это обобщенно представленные основные компетентности, которые обеспечивают нормальную жизнедеятельность человека в социу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  <a:ea typeface="Arial"/>
              </a:rPr>
              <a:t>Характеризуют взаимодействие человека с обществом, социумом, другими людьми, с самим собой. Имеют компонентный состав,  возрастную динамику и специ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пова Елена</cp:lastModifiedBy>
  <dcterms:modified xsi:type="dcterms:W3CDTF">2012-03-24T16:42:52Z</dcterms:modified>
  <cp:revision>114</cp:revision>
  <dc:subject/>
  <dc:title>МОДЕЛЬ ФОРМИРОВАНИЯ КЛЮЧЕВЫХ СОЦИАЛЬНЫХ КОМПЕТЕНЦИЙ СТУДЕНТОВ   В ВОСПИТАТЕЛЬНОМ ПРОЦЕССЕ КОЛЛЕДЖА</dc:title>
</cp:coreProperties>
</file>